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7CF-22B5-4117-8AEA-AD37C207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5DD6-180A-4C0C-B46B-762B5A1D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6EE-07A0-40F5-BD97-380F9D56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142-6FE8-4D91-97D9-BE3D462C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CBC-EA9E-420E-AA15-88FAB726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A61-868C-4E0C-A790-53E6B40E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5561-0A13-45F4-8E53-BD7099DE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FBC9-F011-4F2E-A3AE-773BFE67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1317600"/>
            <a:ext cx="395035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5D0-5C6A-4C43-A22B-F4FA28F9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863-A72C-4A56-8898-0E51B3F4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6B6-61A2-4F5A-BDDD-7735022E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889-4FBB-4C88-91A2-48A46ED2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76840"/>
            <a:ext cx="139003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4B95-BBC4-43EC-B4A1-D58FB973DFDD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6106760" cy="33089760"/>
          </a:xfrm>
          <a:custGeom>
            <a:avLst/>
            <a:gdLst/>
            <a:ahLst/>
            <a:rect l="l" t="t" r="r" b="b"/>
            <a:pathLst>
              <a:path w="10146" h="20844">
                <a:moveTo>
                  <a:pt x="5148" y="20700"/>
                </a:moveTo>
                <a:cubicBezTo>
                  <a:pt x="5796" y="20700"/>
                  <a:pt x="9396" y="20772"/>
                  <a:pt x="9936" y="20772"/>
                </a:cubicBezTo>
                <a:cubicBezTo>
                  <a:pt x="10146" y="20628"/>
                  <a:pt x="7992" y="18540"/>
                  <a:pt x="7632" y="17460"/>
                </a:cubicBezTo>
                <a:cubicBezTo>
                  <a:pt x="7279" y="16351"/>
                  <a:pt x="7290" y="15246"/>
                  <a:pt x="7344" y="14328"/>
                </a:cubicBezTo>
                <a:cubicBezTo>
                  <a:pt x="7398" y="13410"/>
                  <a:pt x="7848" y="12066"/>
                  <a:pt x="7956" y="11952"/>
                </a:cubicBezTo>
                <a:cubicBezTo>
                  <a:pt x="7992" y="12600"/>
                  <a:pt x="7992" y="12564"/>
                  <a:pt x="7992" y="13644"/>
                </a:cubicBezTo>
                <a:cubicBezTo>
                  <a:pt x="8280" y="12492"/>
                  <a:pt x="8640" y="11268"/>
                  <a:pt x="9324" y="10152"/>
                </a:cubicBezTo>
                <a:cubicBezTo>
                  <a:pt x="8568" y="9000"/>
                  <a:pt x="8028" y="7668"/>
                  <a:pt x="7668" y="6840"/>
                </a:cubicBezTo>
                <a:cubicBezTo>
                  <a:pt x="7776" y="7956"/>
                  <a:pt x="7668" y="7236"/>
                  <a:pt x="7776" y="8352"/>
                </a:cubicBezTo>
                <a:cubicBezTo>
                  <a:pt x="7440" y="7896"/>
                  <a:pt x="6228" y="5664"/>
                  <a:pt x="5688" y="4284"/>
                </a:cubicBezTo>
                <a:cubicBezTo>
                  <a:pt x="5244" y="2898"/>
                  <a:pt x="5148" y="1152"/>
                  <a:pt x="5112" y="36"/>
                </a:cubicBezTo>
                <a:cubicBezTo>
                  <a:pt x="3744" y="0"/>
                  <a:pt x="1692" y="36"/>
                  <a:pt x="0" y="36"/>
                </a:cubicBezTo>
                <a:cubicBezTo>
                  <a:pt x="72" y="2916"/>
                  <a:pt x="36" y="17496"/>
                  <a:pt x="72" y="20628"/>
                </a:cubicBezTo>
                <a:cubicBezTo>
                  <a:pt x="1008" y="20700"/>
                  <a:pt x="4356" y="20844"/>
                  <a:pt x="5148" y="20700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2485520" y="10398600"/>
            <a:ext cx="19475640" cy="16499880"/>
            <a:chOff x="12485520" y="10398600"/>
            <a:chExt cx="19475640" cy="16499880"/>
          </a:xfrm>
        </p:grpSpPr>
        <p:pic>
          <p:nvPicPr>
            <p:cNvPr id="43" name="Picture 48" descr="3747"/>
            <p:cNvPicPr/>
            <p:nvPr/>
          </p:nvPicPr>
          <p:blipFill>
            <a:blip r:embed="rId1"/>
            <a:stretch/>
          </p:blipFill>
          <p:spPr>
            <a:xfrm>
              <a:off x="12485520" y="22858560"/>
              <a:ext cx="3813480" cy="3538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14462280" y="10398600"/>
              <a:ext cx="17498880" cy="16499880"/>
              <a:chOff x="14462280" y="10398600"/>
              <a:chExt cx="17498880" cy="16499880"/>
            </a:xfrm>
          </p:grpSpPr>
          <p:pic>
            <p:nvPicPr>
              <p:cNvPr id="45" name="Picture 31" descr="Triar"/>
              <p:cNvPicPr/>
              <p:nvPr/>
            </p:nvPicPr>
            <p:blipFill>
              <a:blip r:embed="rId2"/>
              <a:stretch/>
            </p:blipFill>
            <p:spPr>
              <a:xfrm>
                <a:off x="16100280" y="11436480"/>
                <a:ext cx="11141280" cy="154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22" descr="invaex2"/>
              <p:cNvPicPr/>
              <p:nvPr/>
            </p:nvPicPr>
            <p:blipFill>
              <a:blip r:embed="rId3"/>
              <a:stretch/>
            </p:blipFill>
            <p:spPr>
              <a:xfrm>
                <a:off x="27508320" y="19964520"/>
                <a:ext cx="4452840" cy="490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Line 24"/>
              <p:cNvSpPr/>
              <p:nvPr/>
            </p:nvSpPr>
            <p:spPr>
              <a:xfrm>
                <a:off x="16370280" y="21348720"/>
                <a:ext cx="366228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 Box 25"/>
              <p:cNvSpPr/>
              <p:nvPr/>
            </p:nvSpPr>
            <p:spPr>
              <a:xfrm rot="20944800">
                <a:off x="25795440" y="23850720"/>
                <a:ext cx="361764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Mobi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Picture 31" descr="oxygentank"/>
              <p:cNvPicPr/>
              <p:nvPr/>
            </p:nvPicPr>
            <p:blipFill>
              <a:blip r:embed="rId4"/>
              <a:srcRect l="25018" t="0" r="20014" b="0"/>
              <a:stretch/>
            </p:blipFill>
            <p:spPr>
              <a:xfrm>
                <a:off x="14603400" y="19199160"/>
                <a:ext cx="2416320" cy="363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Line 33"/>
              <p:cNvSpPr/>
              <p:nvPr/>
            </p:nvSpPr>
            <p:spPr>
              <a:xfrm flipV="1">
                <a:off x="15774840" y="24807960"/>
                <a:ext cx="5529240" cy="90792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34"/>
              <p:cNvSpPr/>
              <p:nvPr/>
            </p:nvSpPr>
            <p:spPr>
              <a:xfrm>
                <a:off x="15160680" y="21336120"/>
                <a:ext cx="535788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Accessi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" name="Picture 36" descr="vital-signs-300-large3"/>
              <p:cNvPicPr/>
              <p:nvPr/>
            </p:nvPicPr>
            <p:blipFill>
              <a:blip r:embed="rId5"/>
              <a:stretch/>
            </p:blipFill>
            <p:spPr>
              <a:xfrm>
                <a:off x="14462280" y="14109840"/>
                <a:ext cx="2690640" cy="506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Line 38"/>
              <p:cNvSpPr/>
              <p:nvPr/>
            </p:nvSpPr>
            <p:spPr>
              <a:xfrm flipV="1">
                <a:off x="26363520" y="11403000"/>
                <a:ext cx="1979640" cy="68112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39"/>
              <p:cNvSpPr/>
              <p:nvPr/>
            </p:nvSpPr>
            <p:spPr>
              <a:xfrm>
                <a:off x="16068600" y="17132400"/>
                <a:ext cx="361656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Vit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40" descr="ivstand"/>
              <p:cNvPicPr/>
              <p:nvPr/>
            </p:nvPicPr>
            <p:blipFill>
              <a:blip r:embed="rId6"/>
              <a:stretch/>
            </p:blipFill>
            <p:spPr>
              <a:xfrm>
                <a:off x="27973440" y="10613880"/>
                <a:ext cx="2170080" cy="531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Text Box 43"/>
              <p:cNvSpPr/>
              <p:nvPr/>
            </p:nvSpPr>
            <p:spPr>
              <a:xfrm rot="20649600">
                <a:off x="25405920" y="10866600"/>
                <a:ext cx="361800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orta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Picture 44" descr="CDR0000526546"/>
              <p:cNvPicPr/>
              <p:nvPr/>
            </p:nvPicPr>
            <p:blipFill>
              <a:blip r:embed="rId7"/>
              <a:srcRect l="0" t="6900" r="31334" b="12523"/>
              <a:stretch/>
            </p:blipFill>
            <p:spPr>
              <a:xfrm>
                <a:off x="28744920" y="16306920"/>
                <a:ext cx="2103480" cy="193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Line 46"/>
              <p:cNvSpPr/>
              <p:nvPr/>
            </p:nvSpPr>
            <p:spPr>
              <a:xfrm>
                <a:off x="16903800" y="17056080"/>
                <a:ext cx="2225520" cy="7308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 Box 47"/>
              <p:cNvSpPr/>
              <p:nvPr/>
            </p:nvSpPr>
            <p:spPr>
              <a:xfrm rot="21347400">
                <a:off x="25614360" y="16919640"/>
                <a:ext cx="361800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Han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50"/>
              <p:cNvSpPr/>
              <p:nvPr/>
            </p:nvSpPr>
            <p:spPr>
              <a:xfrm flipV="1">
                <a:off x="26669880" y="24383880"/>
                <a:ext cx="1905120" cy="40032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51"/>
              <p:cNvSpPr/>
              <p:nvPr/>
            </p:nvSpPr>
            <p:spPr>
              <a:xfrm rot="20956800">
                <a:off x="15165360" y="24828480"/>
                <a:ext cx="3618000" cy="13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ractic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" name="Picture 52" descr="FAM_CLOROX_DISINFECTING_WIPE-2719"/>
              <p:cNvPicPr/>
              <p:nvPr/>
            </p:nvPicPr>
            <p:blipFill>
              <a:blip r:embed="rId8"/>
              <a:srcRect l="10709" t="5394" r="13504" b="0"/>
              <a:stretch/>
            </p:blipFill>
            <p:spPr>
              <a:xfrm rot="646800">
                <a:off x="14935320" y="11102760"/>
                <a:ext cx="1733400" cy="238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Text Box 55"/>
              <p:cNvSpPr/>
              <p:nvPr/>
            </p:nvSpPr>
            <p:spPr>
              <a:xfrm rot="615600">
                <a:off x="15697080" y="11347200"/>
                <a:ext cx="361656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Sanitar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38"/>
              <p:cNvSpPr/>
              <p:nvPr/>
            </p:nvSpPr>
            <p:spPr>
              <a:xfrm flipV="1">
                <a:off x="26363520" y="11403000"/>
                <a:ext cx="1979640" cy="68112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42"/>
              <p:cNvSpPr/>
              <p:nvPr/>
            </p:nvSpPr>
            <p:spPr>
              <a:xfrm flipV="1">
                <a:off x="26179560" y="17670600"/>
                <a:ext cx="2349360" cy="20304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46"/>
              <p:cNvSpPr/>
              <p:nvPr/>
            </p:nvSpPr>
            <p:spPr>
              <a:xfrm>
                <a:off x="16903800" y="17056080"/>
                <a:ext cx="2225520" cy="730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54"/>
              <p:cNvSpPr/>
              <p:nvPr/>
            </p:nvSpPr>
            <p:spPr>
              <a:xfrm flipH="1" flipV="1">
                <a:off x="16484760" y="11975760"/>
                <a:ext cx="2411280" cy="476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7"/>
          <p:cNvGrpSpPr/>
          <p:nvPr/>
        </p:nvGrpSpPr>
        <p:grpSpPr>
          <a:xfrm>
            <a:off x="1581120" y="723960"/>
            <a:ext cx="6362280" cy="4724280"/>
            <a:chOff x="1581120" y="723960"/>
            <a:chExt cx="6362280" cy="4724280"/>
          </a:xfrm>
        </p:grpSpPr>
        <p:sp>
          <p:nvSpPr>
            <p:cNvPr id="69" name="Line 8"/>
            <p:cNvSpPr/>
            <p:nvPr/>
          </p:nvSpPr>
          <p:spPr>
            <a:xfrm flipV="1">
              <a:off x="3298320" y="3130200"/>
              <a:ext cx="632880" cy="20754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2509920" y="926280"/>
              <a:ext cx="1443600" cy="1723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>
              <a:off x="5038200" y="3128400"/>
              <a:ext cx="123372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3772440" y="3130560"/>
              <a:ext cx="1108080" cy="4942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3953880" y="2644200"/>
              <a:ext cx="1130760" cy="2908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1581120" y="723960"/>
              <a:ext cx="949320" cy="23004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 flipV="1">
              <a:off x="5540040" y="2700720"/>
              <a:ext cx="312480" cy="427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5"/>
            <p:cNvSpPr/>
            <p:nvPr/>
          </p:nvSpPr>
          <p:spPr>
            <a:xfrm>
              <a:off x="5124240" y="2695680"/>
              <a:ext cx="123228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6"/>
            <p:cNvSpPr/>
            <p:nvPr/>
          </p:nvSpPr>
          <p:spPr>
            <a:xfrm>
              <a:off x="6710040" y="3128400"/>
              <a:ext cx="1176120" cy="205776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7"/>
            <p:cNvSpPr/>
            <p:nvPr/>
          </p:nvSpPr>
          <p:spPr>
            <a:xfrm flipV="1">
              <a:off x="6643080" y="4116960"/>
              <a:ext cx="632880" cy="1980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6878520" y="2926080"/>
              <a:ext cx="714960" cy="1215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6958440" y="2860200"/>
              <a:ext cx="984960" cy="459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6377040" y="3091320"/>
              <a:ext cx="342360" cy="183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1"/>
            <p:cNvSpPr/>
            <p:nvPr/>
          </p:nvSpPr>
          <p:spPr>
            <a:xfrm flipH="1">
              <a:off x="2820600" y="2452680"/>
              <a:ext cx="948960" cy="29660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>
              <a:off x="6393960" y="3270600"/>
              <a:ext cx="529920" cy="21776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2"/>
          <p:cNvSpPr/>
          <p:nvPr/>
        </p:nvSpPr>
        <p:spPr>
          <a:xfrm>
            <a:off x="11125080" y="266760"/>
            <a:ext cx="38481120" cy="2514600"/>
          </a:xfrm>
          <a:prstGeom prst="roundRect">
            <a:avLst>
              <a:gd name="adj" fmla="val 50000"/>
            </a:avLst>
          </a:prstGeom>
          <a:solidFill>
            <a:srgbClr val="99ccff">
              <a:alpha val="50000"/>
            </a:srgbClr>
          </a:solidFill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0" bIns="46800" anchor="ctr">
            <a:noAutofit/>
          </a:bodyPr>
          <a:p>
            <a:pPr>
              <a:spcBef>
                <a:spcPts val="593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Process Defining Furniture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3"/>
          <p:cNvSpPr/>
          <p:nvPr/>
        </p:nvSpPr>
        <p:spPr>
          <a:xfrm>
            <a:off x="15011280" y="2933640"/>
            <a:ext cx="34594920" cy="152424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12708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6000" spc="-1" strike="noStrike">
                <a:solidFill>
                  <a:srgbClr val="bddeff"/>
                </a:solidFill>
                <a:latin typeface="Arial"/>
              </a:rPr>
              <a:t>      </a:t>
            </a:r>
            <a:r>
              <a:rPr b="1" lang="en-US" sz="6600" spc="-1" strike="noStrike">
                <a:solidFill>
                  <a:srgbClr val="bddeff"/>
                </a:solidFill>
                <a:latin typeface="Arial"/>
              </a:rPr>
              <a:t>Advancing Triage for the Fu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2095560" y="552456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Gulim"/>
                <a:ea typeface="Arial"/>
              </a:rPr>
              <a:t>The Triage C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34670880" y="22783680"/>
            <a:ext cx="9068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4"/>
          <p:cNvGrpSpPr/>
          <p:nvPr/>
        </p:nvGrpSpPr>
        <p:grpSpPr>
          <a:xfrm>
            <a:off x="14325480" y="27565200"/>
            <a:ext cx="15544800" cy="5443560"/>
            <a:chOff x="14325480" y="27565200"/>
            <a:chExt cx="15544800" cy="5443560"/>
          </a:xfrm>
        </p:grpSpPr>
        <p:pic>
          <p:nvPicPr>
            <p:cNvPr id="89" name="Picture 27" descr="HR1130_Advance2000"/>
            <p:cNvPicPr/>
            <p:nvPr/>
          </p:nvPicPr>
          <p:blipFill>
            <a:blip r:embed="rId9"/>
            <a:stretch/>
          </p:blipFill>
          <p:spPr>
            <a:xfrm>
              <a:off x="14325480" y="28433520"/>
              <a:ext cx="5677200" cy="40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Line 29"/>
            <p:cNvSpPr/>
            <p:nvPr/>
          </p:nvSpPr>
          <p:spPr>
            <a:xfrm>
              <a:off x="20650320" y="30476520"/>
              <a:ext cx="304776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30"/>
            <p:cNvSpPr/>
            <p:nvPr/>
          </p:nvSpPr>
          <p:spPr>
            <a:xfrm>
              <a:off x="19431000" y="29467080"/>
              <a:ext cx="5143680" cy="15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  <a:ea typeface="Arial"/>
                </a:rPr>
                <a:t>Reclin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9" descr=""/>
            <p:cNvPicPr/>
            <p:nvPr/>
          </p:nvPicPr>
          <p:blipFill>
            <a:blip r:embed="rId10"/>
            <a:stretch/>
          </p:blipFill>
          <p:spPr>
            <a:xfrm>
              <a:off x="23294880" y="27565200"/>
              <a:ext cx="6575400" cy="544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93"/>
          <p:cNvGrpSpPr/>
          <p:nvPr/>
        </p:nvGrpSpPr>
        <p:grpSpPr>
          <a:xfrm>
            <a:off x="31775400" y="11220480"/>
            <a:ext cx="11810880" cy="6229440"/>
            <a:chOff x="31775400" y="11220480"/>
            <a:chExt cx="11810880" cy="6229440"/>
          </a:xfrm>
        </p:grpSpPr>
        <p:sp>
          <p:nvSpPr>
            <p:cNvPr id="94" name="Text Box 71"/>
            <p:cNvSpPr/>
            <p:nvPr/>
          </p:nvSpPr>
          <p:spPr>
            <a:xfrm>
              <a:off x="31775400" y="112204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efo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72" descr=""/>
            <p:cNvPicPr/>
            <p:nvPr/>
          </p:nvPicPr>
          <p:blipFill>
            <a:blip r:embed="rId11"/>
            <a:stretch/>
          </p:blipFill>
          <p:spPr>
            <a:xfrm>
              <a:off x="32486400" y="11944080"/>
              <a:ext cx="4959360" cy="54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Freeform 73"/>
            <p:cNvSpPr/>
            <p:nvPr/>
          </p:nvSpPr>
          <p:spPr>
            <a:xfrm>
              <a:off x="33616800" y="13335120"/>
              <a:ext cx="4413240" cy="356256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74"/>
            <p:cNvSpPr/>
            <p:nvPr/>
          </p:nvSpPr>
          <p:spPr>
            <a:xfrm>
              <a:off x="34061400" y="13430160"/>
              <a:ext cx="4190760" cy="35942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75"/>
            <p:cNvSpPr/>
            <p:nvPr/>
          </p:nvSpPr>
          <p:spPr>
            <a:xfrm>
              <a:off x="37309320" y="11263320"/>
              <a:ext cx="618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Af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76" descr=""/>
            <p:cNvPicPr/>
            <p:nvPr/>
          </p:nvPicPr>
          <p:blipFill>
            <a:blip r:embed="rId12"/>
            <a:stretch/>
          </p:blipFill>
          <p:spPr>
            <a:xfrm>
              <a:off x="38025360" y="11968200"/>
              <a:ext cx="4871880" cy="54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Freeform 77"/>
            <p:cNvSpPr/>
            <p:nvPr/>
          </p:nvSpPr>
          <p:spPr>
            <a:xfrm>
              <a:off x="39230280" y="15346440"/>
              <a:ext cx="4190760" cy="120636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78"/>
            <p:cNvSpPr/>
            <p:nvPr/>
          </p:nvSpPr>
          <p:spPr>
            <a:xfrm>
              <a:off x="40716360" y="13416120"/>
              <a:ext cx="2869920" cy="388620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9"/>
            <p:cNvSpPr/>
            <p:nvPr/>
          </p:nvSpPr>
          <p:spPr>
            <a:xfrm>
              <a:off x="38252520" y="12196800"/>
              <a:ext cx="4419360" cy="259092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0"/>
            <p:cNvSpPr/>
            <p:nvPr/>
          </p:nvSpPr>
          <p:spPr>
            <a:xfrm rot="21118800">
              <a:off x="38862000" y="13034520"/>
              <a:ext cx="2971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4389480"/>
                  <a:tab algn="l" pos="877896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</a:rPr>
                <a:t>Reduced Spa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1"/>
            <p:cNvSpPr/>
            <p:nvPr/>
          </p:nvSpPr>
          <p:spPr>
            <a:xfrm>
              <a:off x="33756480" y="13354200"/>
              <a:ext cx="4114800" cy="350532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71" descr="connections"/>
          <p:cNvPicPr/>
          <p:nvPr/>
        </p:nvPicPr>
        <p:blipFill>
          <a:blip r:embed="rId13"/>
          <a:stretch/>
        </p:blipFill>
        <p:spPr>
          <a:xfrm>
            <a:off x="33604200" y="25526880"/>
            <a:ext cx="8559720" cy="5956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533520" y="7753320"/>
            <a:ext cx="13106160" cy="64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riage’s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efficient Work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or Space Util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accessibl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ck of Procedural Integ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57200" y="14935320"/>
            <a:ext cx="1257300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Impact of the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ngthens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reates Extra Walking for Nurses and Pati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rge Space Needed for Current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80880" y="22974480"/>
            <a:ext cx="12725640" cy="84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Design Principles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&amp; equipment should be integrated with the proces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y to cle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rgono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quipment should reduce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ily adap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3"/>
          <p:cNvSpPr/>
          <p:nvPr/>
        </p:nvSpPr>
        <p:spPr>
          <a:xfrm>
            <a:off x="33299280" y="4952880"/>
            <a:ext cx="9982440" cy="62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riar’s Impac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space of Tri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ximizes 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tegrates Triag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foot pr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uity Adaptabl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77"/>
          <p:cNvSpPr txBox="1"/>
          <p:nvPr/>
        </p:nvSpPr>
        <p:spPr>
          <a:xfrm>
            <a:off x="16992720" y="4848120"/>
            <a:ext cx="101343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1" strike="noStrike">
                <a:ln w="63360">
                  <a:solidFill>
                    <a:srgbClr val="bdde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One Stop Chair</a:t>
            </a:r>
            <a:endParaRPr b="0" lang="en-US" sz="8600" spc="1" strike="noStrike">
              <a:ln w="63360">
                <a:solidFill>
                  <a:srgbClr val="bdde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Line 78"/>
          <p:cNvSpPr/>
          <p:nvPr/>
        </p:nvSpPr>
        <p:spPr>
          <a:xfrm>
            <a:off x="31775400" y="4419720"/>
            <a:ext cx="0" cy="28498680"/>
          </a:xfrm>
          <a:prstGeom prst="line">
            <a:avLst/>
          </a:prstGeom>
          <a:ln w="7632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2"/>
          <p:cNvSpPr/>
          <p:nvPr/>
        </p:nvSpPr>
        <p:spPr>
          <a:xfrm>
            <a:off x="37414080" y="373392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s, Dr. Craig Zim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3"/>
          <p:cNvSpPr/>
          <p:nvPr/>
        </p:nvSpPr>
        <p:spPr>
          <a:xfrm>
            <a:off x="13868280" y="6845400"/>
            <a:ext cx="693432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3"/>
          <p:cNvSpPr/>
          <p:nvPr/>
        </p:nvSpPr>
        <p:spPr>
          <a:xfrm>
            <a:off x="20069280" y="685332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eel C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3"/>
          <p:cNvSpPr/>
          <p:nvPr/>
        </p:nvSpPr>
        <p:spPr>
          <a:xfrm>
            <a:off x="24993720" y="685800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sample tr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retc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V St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4"/>
          <p:cNvSpPr/>
          <p:nvPr/>
        </p:nvSpPr>
        <p:spPr>
          <a:xfrm>
            <a:off x="30570480" y="-838080"/>
            <a:ext cx="14173200" cy="542268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9"/>
          <p:cNvSpPr/>
          <p:nvPr/>
        </p:nvSpPr>
        <p:spPr>
          <a:xfrm>
            <a:off x="32842080" y="171360"/>
            <a:ext cx="1045368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don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ky Halc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pil Raj N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0"/>
          <p:cNvSpPr/>
          <p:nvPr/>
        </p:nvSpPr>
        <p:spPr>
          <a:xfrm>
            <a:off x="35114040" y="261936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s: David Cowan; Jeremy Ackerman, MD, Ph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1"/>
          <p:cNvSpPr/>
          <p:nvPr/>
        </p:nvSpPr>
        <p:spPr>
          <a:xfrm>
            <a:off x="35737920" y="319572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n Yi-Luen Do, PhD; Marilyn Margolis, RN,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2"/>
          <p:cNvSpPr/>
          <p:nvPr/>
        </p:nvSpPr>
        <p:spPr>
          <a:xfrm>
            <a:off x="36480600" y="37670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ig Zimring, PhD; Marvina Williams, 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3"/>
          <p:cNvSpPr/>
          <p:nvPr/>
        </p:nvSpPr>
        <p:spPr>
          <a:xfrm flipV="1">
            <a:off x="41595840" y="4419720"/>
            <a:ext cx="3217680" cy="38160"/>
          </a:xfrm>
          <a:prstGeom prst="line">
            <a:avLst/>
          </a:prstGeom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4" descr=""/>
          <p:cNvPicPr/>
          <p:nvPr/>
        </p:nvPicPr>
        <p:blipFill>
          <a:blip r:embed="rId14"/>
          <a:srcRect l="8635" t="14149" r="5038" b="17686"/>
          <a:stretch/>
        </p:blipFill>
        <p:spPr>
          <a:xfrm>
            <a:off x="38199960" y="0"/>
            <a:ext cx="4724280" cy="25034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65"/>
          <p:cNvGrpSpPr/>
          <p:nvPr/>
        </p:nvGrpSpPr>
        <p:grpSpPr>
          <a:xfrm>
            <a:off x="30403800" y="228600"/>
            <a:ext cx="11201040" cy="4266720"/>
            <a:chOff x="30403800" y="228600"/>
            <a:chExt cx="11201040" cy="4266720"/>
          </a:xfrm>
        </p:grpSpPr>
        <p:sp>
          <p:nvSpPr>
            <p:cNvPr id="124" name="Line 66"/>
            <p:cNvSpPr/>
            <p:nvPr/>
          </p:nvSpPr>
          <p:spPr>
            <a:xfrm>
              <a:off x="32553720" y="624960"/>
              <a:ext cx="3384360" cy="33192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7"/>
            <p:cNvSpPr/>
            <p:nvPr/>
          </p:nvSpPr>
          <p:spPr>
            <a:xfrm>
              <a:off x="35924040" y="3933720"/>
              <a:ext cx="5680800" cy="561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8"/>
            <p:cNvSpPr/>
            <p:nvPr/>
          </p:nvSpPr>
          <p:spPr>
            <a:xfrm>
              <a:off x="30403800" y="228600"/>
              <a:ext cx="2210760" cy="4518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88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noFill/>
          <a:ln w="2541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9"/>
          <p:cNvSpPr/>
          <p:nvPr/>
        </p:nvSpPr>
        <p:spPr>
          <a:xfrm>
            <a:off x="34366320" y="1740384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81"/>
          <p:cNvSpPr/>
          <p:nvPr/>
        </p:nvSpPr>
        <p:spPr>
          <a:xfrm>
            <a:off x="38099880" y="17602200"/>
            <a:ext cx="533520" cy="228600"/>
          </a:xfrm>
          <a:prstGeom prst="rect">
            <a:avLst/>
          </a:prstGeom>
          <a:solidFill>
            <a:srgbClr val="cc00cc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3"/>
          <p:cNvSpPr/>
          <p:nvPr/>
        </p:nvSpPr>
        <p:spPr>
          <a:xfrm>
            <a:off x="32994720" y="17983080"/>
            <a:ext cx="9982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he Future Triar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9"/>
          <p:cNvSpPr/>
          <p:nvPr/>
        </p:nvSpPr>
        <p:spPr>
          <a:xfrm>
            <a:off x="37814400" y="1740384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1"/>
          <p:cNvSpPr/>
          <p:nvPr/>
        </p:nvSpPr>
        <p:spPr>
          <a:xfrm>
            <a:off x="34670880" y="17602200"/>
            <a:ext cx="5335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3"/>
          <p:cNvSpPr/>
          <p:nvPr/>
        </p:nvSpPr>
        <p:spPr>
          <a:xfrm>
            <a:off x="32156280" y="31470480"/>
            <a:ext cx="117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Remote Monitoring of the Pati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5"/>
          <a:srcRect l="1199" t="0" r="3594" b="0"/>
          <a:stretch/>
        </p:blipFill>
        <p:spPr>
          <a:xfrm>
            <a:off x="31775400" y="19243800"/>
            <a:ext cx="12115800" cy="75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3:53:45Z</dcterms:created>
  <dc:creator>Becky</dc:creator>
  <dc:description/>
  <dc:language>en-US</dc:language>
  <cp:lastModifiedBy>Becky</cp:lastModifiedBy>
  <dcterms:modified xsi:type="dcterms:W3CDTF">2008-11-24T22:12:03Z</dcterms:modified>
  <cp:revision>47</cp:revision>
  <dc:subject/>
  <dc:title>Slide 1</dc:title>
</cp:coreProperties>
</file>